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7.png" ContentType="image/png"/>
  <Override PartName="/ppt/media/image9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  <p:sldId id="273" r:id="rId31"/>
    <p:sldId id="274" r:id="rId32"/>
    <p:sldId id="275" r:id="rId33"/>
    <p:sldId id="276" r:id="rId34"/>
    <p:sldId id="277" r:id="rId35"/>
    <p:sldId id="27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slide" Target="slides/slide18.xml"/><Relationship Id="rId32" Type="http://schemas.openxmlformats.org/officeDocument/2006/relationships/slide" Target="slides/slide19.xml"/><Relationship Id="rId33" Type="http://schemas.openxmlformats.org/officeDocument/2006/relationships/slide" Target="slides/slide20.xml"/><Relationship Id="rId34" Type="http://schemas.openxmlformats.org/officeDocument/2006/relationships/slide" Target="slides/slide21.xml"/><Relationship Id="rId35" Type="http://schemas.openxmlformats.org/officeDocument/2006/relationships/slide" Target="slides/slide22.xml"/><Relationship Id="rId36" Type="http://schemas.openxmlformats.org/officeDocument/2006/relationships/slide" Target="slides/slide2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82BB9-108C-427D-B0EE-AB2FD519B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B29D-141B-4138-8261-8A02D70DF6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2573-FC4E-4ED8-AB08-0B5F8523FA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5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A0DC8-9BA2-495A-A05F-30895D497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1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2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5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C916-6617-45D4-8982-92164315D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5ADD-C4BA-4AA3-ABD8-A5044514F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5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6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057E-B74E-4617-A1C5-B8F48143C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2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3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4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00097-58A0-4189-A0D8-117F612B5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5EFB-CBEC-4568-9E49-B7DD196D4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6932-8C7D-4C56-9E7C-19F198E5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9E777-1F3B-44F1-8909-7DFE45BB7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7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68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78BB-6AF6-46F7-860A-52B20F4BD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57200" y="3898800"/>
            <a:ext cx="822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45720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4674240" y="3898800"/>
            <a:ext cx="40158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4" name="PlaceHolder 5"/>
          <p:cNvSpPr>
            <a:spLocks noGrp="1"/>
          </p:cNvSpPr>
          <p:nvPr>
            <p:ph/>
          </p:nvPr>
        </p:nvSpPr>
        <p:spPr>
          <a:xfrm>
            <a:off x="45720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5" name="PlaceHolder 6"/>
          <p:cNvSpPr>
            <a:spLocks noGrp="1"/>
          </p:cNvSpPr>
          <p:nvPr>
            <p:ph/>
          </p:nvPr>
        </p:nvSpPr>
        <p:spPr>
          <a:xfrm>
            <a:off x="323964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6" name="PlaceHolder 7"/>
          <p:cNvSpPr>
            <a:spLocks noGrp="1"/>
          </p:cNvSpPr>
          <p:nvPr>
            <p:ph/>
          </p:nvPr>
        </p:nvSpPr>
        <p:spPr>
          <a:xfrm>
            <a:off x="6022080" y="3898800"/>
            <a:ext cx="2649600" cy="20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98b4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98b4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98b4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819D55-6C63-4AFC-9EF3-5316052F2033}" type="slidenum">
              <a:rPr b="0" lang="it-IT" sz="1200" spc="-1" strike="noStrike">
                <a:solidFill>
                  <a:srgbClr val="8998b4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539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mailto:Boian%20Mitov" TargetMode="External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mailto:mitov@mitov.com" TargetMode="External"/><Relationship Id="rId3" Type="http://schemas.openxmlformats.org/officeDocument/2006/relationships/hyperlink" Target="http://www.mitov.com/" TargetMode="External"/><Relationship Id="rId4" Type="http://schemas.openxmlformats.org/officeDocument/2006/relationships/hyperlink" Target="http://www.openwire.org/" TargetMode="External"/><Relationship Id="rId5" Type="http://schemas.openxmlformats.org/officeDocument/2006/relationships/hyperlink" Target="http://www.igdiplus.org/" TargetMode="External"/><Relationship Id="rId6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5390"/>
                </a:solidFill>
                <a:latin typeface="Calibri"/>
              </a:rPr>
              <a:t>Video and Audio processing with Delphi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8998b4"/>
                </a:solidFill>
                <a:latin typeface="Calibri"/>
              </a:rPr>
              <a:t>Boian Mitov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3200" spc="-1" strike="noStrike">
                <a:solidFill>
                  <a:srgbClr val="8998b4"/>
                </a:solidFill>
                <a:latin typeface="Calibri"/>
              </a:rPr>
              <a:t>Mitov Software</a:t>
            </a:r>
            <a:br>
              <a:rPr sz="3200"/>
            </a:br>
            <a:r>
              <a:rPr b="0" lang="fi-FI" sz="3200" spc="-1" strike="noStrike" u="sng">
                <a:solidFill>
                  <a:srgbClr val="860dff"/>
                </a:solidFill>
                <a:uFillTx/>
                <a:latin typeface="Calibri"/>
                <a:hlinkClick r:id="rId2"/>
              </a:rPr>
              <a:t>mitov@mitov.com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Downsampled frame format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Usually YUV format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2 to 1 X or Y or XY down sampling of one or 2 channels.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Planar or packed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  <p:graphicFrame>
        <p:nvGraphicFramePr>
          <p:cNvPr id="483" name="Segnaposto testo 2"/>
          <p:cNvGraphicFramePr/>
          <p:nvPr/>
        </p:nvGraphicFramePr>
        <p:xfrm>
          <a:off x="3564000" y="3054240"/>
          <a:ext cx="2924280" cy="2895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484" name="Segnaposto testo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564000" y="3054240"/>
                    <a:ext cx="2924280" cy="289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Audio characteristic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Sample rate( 8000, 11025, 22050, 44100…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Number of channels( 1, 2,…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Bits per channel( 8, 16, 24, 32 …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Windows Multimedia SDK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Win32 API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Win32 SDK, deprecat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X DirectSound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COM ba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X DirectShow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COM ba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X DMO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COM ba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Windows Media Encoder API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COM ba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Show Editing Services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COM ba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Win32 API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Video For Windows API (VFW)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WaveAPI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MIDI API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Auxiliary API(CD Players etc.)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Mixer API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Multimedia Input and Output API (MMIO)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Media Control Interface API (MCI)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Timers API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Others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DirectX API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Draw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direct access to drawing surface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3D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3D rendering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Sound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Direct access to the audio buffers and hardwar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Input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Keboard, Mouse, Joystick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Play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Multiplayer Comunication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5390"/>
                </a:solidFill>
                <a:latin typeface="Calibri"/>
              </a:rPr>
              <a:t>DirectSetup</a:t>
            </a: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 – Installation API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DirectShow API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Designed for streaming video and audio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Originally part of DirectX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OM Ba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Graph Architectur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Windows Media Encoder API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Designed for ASF files encoding, playback and broadcas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OM Ba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DirectSound API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Designed for low latency 3D sound effect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Part of DirectX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OM Based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Targeting mainly game developmen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3th Party Solution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Helix (Real Player) – recording, compression and playback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Quick Time – recording and playback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FreeFrame – video processing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VirtualDub – video processing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AVISynth – video processing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Vorbis, and Speex – compression recording and playback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Live555 – streaming server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Intel IPP – Signal and Image processing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5390"/>
                </a:solidFill>
                <a:latin typeface="Calibri"/>
              </a:rPr>
              <a:t>Many more…</a:t>
            </a:r>
            <a:endParaRPr b="0" lang="en-US" sz="24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DirectShow Demo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Video Player demo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apture Bitmaps demo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Video Capture demo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Audio Capture Demo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Video and Audio Task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0"/>
                </a:solidFill>
                <a:latin typeface="Calibri"/>
              </a:rPr>
              <a:t>Capture</a:t>
            </a: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 – captures from a device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0"/>
                </a:solidFill>
                <a:latin typeface="Calibri"/>
              </a:rPr>
              <a:t>Output</a:t>
            </a: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 – sends to a device (Screen, Speaker etc.)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0"/>
                </a:solidFill>
                <a:latin typeface="Calibri"/>
              </a:rPr>
              <a:t>Record</a:t>
            </a: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 – stores to a file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0"/>
                </a:solidFill>
                <a:latin typeface="Calibri"/>
              </a:rPr>
              <a:t>Playback</a:t>
            </a: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 – plays from file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0"/>
                </a:solidFill>
                <a:latin typeface="Calibri"/>
              </a:rPr>
              <a:t>Process</a:t>
            </a: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 – performs processing over the stream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0"/>
                </a:solidFill>
                <a:latin typeface="Calibri"/>
              </a:rPr>
              <a:t>Analyze</a:t>
            </a: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 – analyzes the stream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0"/>
                </a:solidFill>
                <a:latin typeface="Calibri"/>
              </a:rPr>
              <a:t>Compress</a:t>
            </a: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 – compresses or decompresses the stream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5390"/>
                </a:solidFill>
                <a:latin typeface="Calibri"/>
              </a:rPr>
              <a:t>Broadcast</a:t>
            </a: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 – sends the stream over IP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DSPack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ree Open Source projec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Contains DirectShow header translation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DirectShow SDK base classes translations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VCL Component wrappers for Graph, Sink, Source filter and mor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Not supported (Last build 2003, last commit 2006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Processing Audio Demo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Performing FIR filter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507" name="Segnaposto testo 2" descr=""/>
          <p:cNvPicPr/>
          <p:nvPr/>
        </p:nvPicPr>
        <p:blipFill>
          <a:blip r:embed="rId2"/>
          <a:stretch/>
        </p:blipFill>
        <p:spPr>
          <a:xfrm>
            <a:off x="2340000" y="2781360"/>
            <a:ext cx="4038480" cy="18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Processing Video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Performing BOX filter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510" name="Segnaposto testo 2" descr=""/>
          <p:cNvPicPr/>
          <p:nvPr/>
        </p:nvPicPr>
        <p:blipFill>
          <a:blip r:embed="rId2"/>
          <a:stretch/>
        </p:blipFill>
        <p:spPr>
          <a:xfrm>
            <a:off x="755640" y="2781360"/>
            <a:ext cx="7632720" cy="165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About the Speaker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Boian Mitov 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2"/>
              </a:rPr>
              <a:t>mitov@mitov.com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President of Mitov Software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Mitov Software 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URL: </a:t>
            </a: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3"/>
              </a:rPr>
              <a:t>www.mitov.com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Products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VideoLab – Video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AudioLab – Audio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SignalLab – Digital signal processing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VisionLab – Basic computer vis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PlotLab – Data visualizat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InstrumentLab – Visual instrumentation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5390"/>
                </a:solidFill>
                <a:latin typeface="Calibri"/>
              </a:rPr>
              <a:t>Free open source libraries maintained by Mitov Software</a:t>
            </a:r>
            <a:endParaRPr b="0" lang="en-US" sz="20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4"/>
              </a:rPr>
              <a:t>www.openwire.org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 – The OpenWire library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539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860dff"/>
                </a:solidFill>
                <a:uFillTx/>
                <a:latin typeface="Calibri"/>
                <a:hlinkClick r:id="rId5"/>
              </a:rPr>
              <a:t>www.igdiplus.org</a:t>
            </a:r>
            <a:r>
              <a:rPr b="0" lang="en-US" sz="1800" spc="-1" strike="noStrike">
                <a:solidFill>
                  <a:srgbClr val="005390"/>
                </a:solidFill>
                <a:latin typeface="Calibri"/>
              </a:rPr>
              <a:t> – The IGDI+ library ( Delphi friendly GDI+ library )</a:t>
            </a: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Video characteristic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rame size 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rame format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Frame rat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Aspect ratio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Color Space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RGB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HLS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HSV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YUV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LUV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XYZ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YCbCr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YCC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CIELab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RGB Color Space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468" name="Segnaposto testo 2" descr=""/>
          <p:cNvPicPr/>
          <p:nvPr/>
        </p:nvPicPr>
        <p:blipFill>
          <a:blip r:embed="rId2"/>
          <a:stretch/>
        </p:blipFill>
        <p:spPr>
          <a:xfrm>
            <a:off x="1979640" y="1557360"/>
            <a:ext cx="47530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HSV Color Space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470" name="Segnaposto testo 2" descr=""/>
          <p:cNvPicPr/>
          <p:nvPr/>
        </p:nvPicPr>
        <p:blipFill>
          <a:blip r:embed="rId2"/>
          <a:stretch/>
        </p:blipFill>
        <p:spPr>
          <a:xfrm>
            <a:off x="755640" y="2133720"/>
            <a:ext cx="7620120" cy="339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HSL Color Space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472" name="Segnaposto testo 2" descr=""/>
          <p:cNvPicPr/>
          <p:nvPr/>
        </p:nvPicPr>
        <p:blipFill>
          <a:blip r:embed="rId2"/>
          <a:stretch/>
        </p:blipFill>
        <p:spPr>
          <a:xfrm>
            <a:off x="2503440" y="1600200"/>
            <a:ext cx="41371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5390"/>
                </a:solidFill>
                <a:latin typeface="Calibri"/>
              </a:rPr>
              <a:t>Video frame formats by color space</a:t>
            </a:r>
            <a:endParaRPr b="0" lang="en-US" sz="40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Gray Scale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RGB/BGR (8 bit palette, 555, 565, 24 bit, 32 bit etc.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ARGB(RGBA, BGRA, etc.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5390"/>
                </a:solidFill>
                <a:latin typeface="Calibri"/>
              </a:rPr>
              <a:t>YUV (AI44, AYUV, IYUV, NV11, NV12, UYVY, Y41P, YUY2, etc. )</a:t>
            </a: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539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5390"/>
                </a:solidFill>
                <a:latin typeface="Calibri"/>
              </a:rPr>
              <a:t>Planar and packed frame formats</a:t>
            </a:r>
            <a:endParaRPr b="0" lang="en-US" sz="4400" spc="-1" strike="noStrike">
              <a:solidFill>
                <a:srgbClr val="005390"/>
              </a:solidFill>
              <a:latin typeface="Calibri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931160" cy="204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Packed formats – All the color data is in a single buffer.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53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5390"/>
                </a:solidFill>
                <a:latin typeface="Calibri"/>
              </a:rPr>
              <a:t>Planar format – each color component is in a separated buffer.</a:t>
            </a:r>
            <a:endParaRPr b="0" lang="en-US" sz="2800" spc="-1" strike="noStrike">
              <a:solidFill>
                <a:srgbClr val="005390"/>
              </a:solidFill>
              <a:latin typeface="Calibri"/>
            </a:endParaRPr>
          </a:p>
        </p:txBody>
      </p:sp>
      <p:pic>
        <p:nvPicPr>
          <p:cNvPr id="477" name="Segnaposto testo 2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2016000" cy="1952640"/>
          </a:xfrm>
          <a:prstGeom prst="rect">
            <a:avLst/>
          </a:prstGeom>
          <a:ln w="0">
            <a:noFill/>
          </a:ln>
        </p:spPr>
      </p:pic>
      <p:sp>
        <p:nvSpPr>
          <p:cNvPr id="478" name=""/>
          <p:cNvSpPr/>
          <p:nvPr/>
        </p:nvSpPr>
        <p:spPr>
          <a:xfrm>
            <a:off x="4427640" y="3645000"/>
            <a:ext cx="2232000" cy="1944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53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643280" y="3860640"/>
            <a:ext cx="2232360" cy="1944720"/>
          </a:xfrm>
          <a:prstGeom prst="rect">
            <a:avLst/>
          </a:prstGeom>
          <a:solidFill>
            <a:srgbClr val="00ff00"/>
          </a:solidFill>
          <a:ln w="9360">
            <a:solidFill>
              <a:srgbClr val="0053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4859280" y="4076640"/>
            <a:ext cx="2232000" cy="1944720"/>
          </a:xfrm>
          <a:prstGeom prst="rect">
            <a:avLst/>
          </a:prstGeom>
          <a:solidFill>
            <a:srgbClr val="0000ff"/>
          </a:solidFill>
          <a:ln w="9360">
            <a:solidFill>
              <a:srgbClr val="00539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539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19:45:58Z</dcterms:created>
  <dc:creator> </dc:creator>
  <dc:description/>
  <dc:language>en-US</dc:language>
  <cp:lastModifiedBy>Boian Mitov</cp:lastModifiedBy>
  <dcterms:modified xsi:type="dcterms:W3CDTF">2009-11-18T18:33:51Z</dcterms:modified>
  <cp:revision>46</cp:revision>
  <dc:subject/>
  <dc:title>Diapositiva 1</dc:title>
</cp:coreProperties>
</file>